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8028-DB73-41B9-B29B-E0365E73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8983-712C-4ECF-83E9-3087F365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667-2257-4016-8727-650DB24C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896D-B09F-4B3C-9496-A1428327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0F38-A436-443B-8B36-EC323B79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5CDE-F82B-4019-9AC8-35810F068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F083-4C5B-4643-9382-2307B649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26D-9E59-4AC7-A8C5-6A2B2620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D703-9134-4508-98D8-96599067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B8D-7EF6-4903-A49C-AEE5E61E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23FB-887D-465C-AA5C-DF0C7DF6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A302-9191-4734-BF1D-39BA23FF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E89E-1DD6-4DBF-BC20-D1745C1FD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25360" y="1038240"/>
            <a:ext cx="7103880" cy="1966680"/>
            <a:chOff x="1125360" y="1038240"/>
            <a:chExt cx="7103880" cy="1966680"/>
          </a:xfrm>
        </p:grpSpPr>
        <p:sp>
          <p:nvSpPr>
            <p:cNvPr id="42" name=""/>
            <p:cNvSpPr/>
            <p:nvPr/>
          </p:nvSpPr>
          <p:spPr>
            <a:xfrm>
              <a:off x="1125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10800000">
              <a:off x="168732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82080" y="155736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86560" y="1038240"/>
              <a:ext cx="5706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618680" y="1038240"/>
              <a:ext cx="550800" cy="19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9104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808080"/>
                  </a:solidFill>
                  <a:latin typeface="Times New Roman"/>
                </a:rPr>
                <a:t>23</a:t>
              </a:r>
              <a:r>
                <a:rPr b="0" lang="en-US" sz="4000" spc="-1" strike="noStrike">
                  <a:solidFill>
                    <a:srgbClr val="80808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91436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ff3300"/>
                  </a:solidFill>
                  <a:latin typeface="Times New Roman"/>
                </a:rPr>
                <a:t>13</a:t>
              </a:r>
              <a:r>
                <a:rPr b="0" lang="en-US" sz="4000" spc="-1" strike="noStrike">
                  <a:solidFill>
                    <a:srgbClr val="ff33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80480" y="1557360"/>
              <a:ext cx="14166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R(</a:t>
              </a:r>
              <a:r>
                <a:rPr b="0" lang="en-US" sz="4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</a:t>
              </a:r>
              <a:r>
                <a:rPr b="0" lang="en-US" sz="4000" spc="-1" strike="noStrike" baseline="-25000">
                  <a:solidFill>
                    <a:srgbClr val="008000"/>
                  </a:solidFill>
                  <a:latin typeface="Times New Roman"/>
                </a:rPr>
                <a:t>12</a:t>
              </a:r>
              <a:r>
                <a:rPr b="0" lang="en-US" sz="4000" spc="-1" strike="noStrike">
                  <a:solidFill>
                    <a:srgbClr val="008000"/>
                  </a:solidFill>
                  <a:latin typeface="Times New Roman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765960" y="1282680"/>
              <a:ext cx="118368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2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727800" y="1176120"/>
              <a:ext cx="69840" cy="146376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0800000">
              <a:off x="4852800" y="1214280"/>
              <a:ext cx="70200" cy="138744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6360" y="1176120"/>
              <a:ext cx="70200" cy="1463760"/>
            </a:xfrm>
            <a:custGeom>
              <a:avLst/>
              <a:gdLst>
                <a:gd name="textAreaLeft" fmla="*/ 20520 w 70200"/>
                <a:gd name="textAreaRight" fmla="*/ 70560 w 70200"/>
                <a:gd name="textAreaTop" fmla="*/ 189720 h 1463760"/>
                <a:gd name="textAreaBottom" fmla="*/ 1274040 h 14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rot="10800000">
              <a:off x="8159400" y="1214280"/>
              <a:ext cx="69840" cy="1387440"/>
            </a:xfrm>
            <a:custGeom>
              <a:avLst/>
              <a:gdLst>
                <a:gd name="textAreaLeft" fmla="*/ 20520 w 69840"/>
                <a:gd name="textAreaRight" fmla="*/ 69840 w 69840"/>
                <a:gd name="textAreaTop" fmla="*/ 180000 h 1387440"/>
                <a:gd name="textAreaBottom" fmla="*/ 1207440 h 13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804"/>
                    <a:pt x="0" y="5608"/>
                  </a:cubicBezTo>
                  <a:lnTo>
                    <a:pt x="0" y="15992"/>
                  </a:lnTo>
                  <a:cubicBezTo>
                    <a:pt x="0" y="18796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2139120" y="544680"/>
            <a:ext cx="157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Times New Roman"/>
              </a:rPr>
              <a:t>atmos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65280" y="54612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sol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84320" y="1177920"/>
            <a:ext cx="0" cy="380880"/>
          </a:xfrm>
          <a:prstGeom prst="line">
            <a:avLst/>
          </a:prstGeom>
          <a:ln w="381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53240" y="1177920"/>
            <a:ext cx="0" cy="3808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76440" y="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olation 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90840" y="4921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782960" y="623880"/>
            <a:ext cx="15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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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56240" y="1219320"/>
            <a:ext cx="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561960" y="2717640"/>
            <a:ext cx="8311680" cy="3911760"/>
            <a:chOff x="561960" y="2717640"/>
            <a:chExt cx="8311680" cy="39117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4795560" y="4832280"/>
                  <a:ext cx="97920" cy="19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6820200" y="3149640"/>
              <a:ext cx="10738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en-US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en-US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Times New Roman"/>
                </a:rPr>
                <a:t>-i</a:t>
              </a:r>
              <a:r>
                <a:rPr b="1" lang="en-US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26640" y="2819520"/>
              <a:ext cx="6257160" cy="3809880"/>
            </a:xfrm>
            <a:prstGeom prst="bracketPair">
              <a:avLst>
                <a:gd name="adj" fmla="val 740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8160" y="3090960"/>
              <a:ext cx="5663880" cy="7491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5400000">
              <a:off x="5590440" y="4063320"/>
              <a:ext cx="3537000" cy="11854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8272080" y="3090960"/>
              <a:ext cx="550800" cy="3369960"/>
              <a:chOff x="8272080" y="3090960"/>
              <a:chExt cx="550800" cy="3369960"/>
            </a:xfrm>
          </p:grpSpPr>
          <p:sp>
            <p:nvSpPr>
              <p:cNvPr id="70" name=""/>
              <p:cNvSpPr/>
              <p:nvPr/>
            </p:nvSpPr>
            <p:spPr>
              <a:xfrm>
                <a:off x="8272080" y="309096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272080" y="438228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8272080" y="5742720"/>
                <a:ext cx="55080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8215920" y="2819520"/>
              <a:ext cx="657720" cy="3809880"/>
            </a:xfrm>
            <a:prstGeom prst="bracketPair">
              <a:avLst>
                <a:gd name="adj" fmla="val 17129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91920" y="3024360"/>
              <a:ext cx="53568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2920" y="5562720"/>
              <a:ext cx="62136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fr-FR" sz="3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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61960" y="2819520"/>
              <a:ext cx="914040" cy="3809880"/>
              <a:chOff x="561960" y="2819520"/>
              <a:chExt cx="914040" cy="3809880"/>
            </a:xfrm>
          </p:grpSpPr>
          <p:sp>
            <p:nvSpPr>
              <p:cNvPr id="77" name=""/>
              <p:cNvSpPr/>
              <p:nvPr/>
            </p:nvSpPr>
            <p:spPr>
              <a:xfrm>
                <a:off x="653040" y="4384080"/>
                <a:ext cx="71856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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61960" y="2819520"/>
                <a:ext cx="914040" cy="380988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457280" y="454356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rot="20179200">
              <a:off x="3578400" y="2931480"/>
              <a:ext cx="123048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339933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339933"/>
                  </a:solidFill>
                  <a:latin typeface="Times New Roman"/>
                </a:rPr>
                <a:t>solai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20095200">
              <a:off x="6444720" y="4788360"/>
              <a:ext cx="2231640" cy="787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808080"/>
                  </a:solidFill>
                  <a:latin typeface="Symbol"/>
                  <a:ea typeface="Symbol"/>
                </a:rPr>
                <a:t></a:t>
              </a:r>
              <a:r>
                <a:rPr b="0" lang="fr-FR" sz="4000" spc="-1" strike="noStrike" baseline="-25000">
                  <a:solidFill>
                    <a:srgbClr val="808080"/>
                  </a:solidFill>
                  <a:latin typeface="Times New Roman"/>
                </a:rPr>
                <a:t>atm, terrestre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" name=""/>
                <p:cNvSpPr txBox="1"/>
                <p:nvPr/>
              </p:nvSpPr>
              <p:spPr>
                <a:xfrm>
                  <a:off x="2543040" y="3011400"/>
                  <a:ext cx="588960" cy="82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3" name=""/>
                <p:cNvSpPr txBox="1"/>
                <p:nvPr/>
              </p:nvSpPr>
              <p:spPr>
                <a:xfrm>
                  <a:off x="4866120" y="3065400"/>
                  <a:ext cx="420120" cy="741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1816200" y="4125960"/>
                  <a:ext cx="17262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3381840" y="42829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4514040" y="411156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5823360" y="426888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7021440" y="416880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9" name=""/>
                <p:cNvSpPr txBox="1"/>
                <p:nvPr/>
              </p:nvSpPr>
              <p:spPr>
                <a:xfrm>
                  <a:off x="1984680" y="5584680"/>
                  <a:ext cx="151668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0" name=""/>
            <p:cNvSpPr/>
            <p:nvPr/>
          </p:nvSpPr>
          <p:spPr>
            <a:xfrm>
              <a:off x="3315960" y="574200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4317840" y="5578560"/>
                  <a:ext cx="172800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f>
                        <m:num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3</m:t>
                              </m:r>
                            </m:e>
                          </m:rad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>
              <a:off x="5889240" y="5735520"/>
              <a:ext cx="1005480" cy="643680"/>
            </a:xfrm>
            <a:prstGeom prst="bracketPair">
              <a:avLst>
                <a:gd name="adj" fmla="val 1712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</a:t>
              </a:r>
              <a:r>
                <a:rPr b="1" lang="fr-FR" sz="2800" spc="-1" strike="noStrike" baseline="-25000">
                  <a:solidFill>
                    <a:srgbClr val="ff0000"/>
                  </a:solidFill>
                  <a:latin typeface="Times New Roman"/>
                </a:rPr>
                <a:t>13</a:t>
              </a:r>
              <a:r>
                <a:rPr b="1" lang="fr-FR" sz="2800" spc="-1" strike="noStrike" baseline="-25000">
                  <a:solidFill>
                    <a:srgbClr val="339933"/>
                  </a:solidFill>
                  <a:latin typeface="Times New Roman"/>
                </a:rPr>
                <a:t> </a:t>
              </a:r>
              <a:r>
                <a:rPr b="1" lang="fr-FR" sz="2800" spc="-1" strike="noStrike">
                  <a:solidFill>
                    <a:srgbClr val="808080"/>
                  </a:solidFill>
                  <a:latin typeface="Times New Roman"/>
                </a:rPr>
                <a:t>e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Times New Roman"/>
                </a:rPr>
                <a:t>i</a:t>
              </a:r>
              <a:r>
                <a:rPr b="1" lang="fr-FR" sz="2800" spc="-1" strike="noStrike" baseline="30000">
                  <a:solidFill>
                    <a:srgbClr val="808080"/>
                  </a:solidFill>
                  <a:latin typeface="Symbol"/>
                  <a:ea typeface="Symbol"/>
                </a:rPr>
                <a:t>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"/>
                <p:cNvSpPr txBox="1"/>
                <p:nvPr/>
              </p:nvSpPr>
              <p:spPr>
                <a:xfrm>
                  <a:off x="7084440" y="5597640"/>
                  <a:ext cx="59184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t xml:space="preserve">2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401920" y="5791320"/>
            <a:ext cx="416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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e de violation de 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96" name=""/>
          <p:cNvGrpSpPr/>
          <p:nvPr/>
        </p:nvGrpSpPr>
        <p:grpSpPr>
          <a:xfrm>
            <a:off x="82440" y="838080"/>
            <a:ext cx="8933040" cy="4724640"/>
            <a:chOff x="82440" y="838080"/>
            <a:chExt cx="8933040" cy="4724640"/>
          </a:xfrm>
        </p:grpSpPr>
        <p:grpSp>
          <p:nvGrpSpPr>
            <p:cNvPr id="97" name=""/>
            <p:cNvGrpSpPr/>
            <p:nvPr/>
          </p:nvGrpSpPr>
          <p:grpSpPr>
            <a:xfrm>
              <a:off x="82440" y="838080"/>
              <a:ext cx="8933040" cy="4724640"/>
              <a:chOff x="82440" y="838080"/>
              <a:chExt cx="8933040" cy="4724640"/>
            </a:xfrm>
          </p:grpSpPr>
          <p:sp>
            <p:nvSpPr>
              <p:cNvPr id="98" name=""/>
              <p:cNvSpPr/>
              <p:nvPr/>
            </p:nvSpPr>
            <p:spPr>
              <a:xfrm>
                <a:off x="82440" y="838080"/>
                <a:ext cx="8933040" cy="47246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1348200" y="1066680"/>
                <a:ext cx="6681960" cy="4309200"/>
                <a:chOff x="1348200" y="1066680"/>
                <a:chExt cx="6681960" cy="4309200"/>
              </a:xfrm>
            </p:grpSpPr>
            <p:grpSp>
              <p:nvGrpSpPr>
                <p:cNvPr id="100" name=""/>
                <p:cNvGrpSpPr/>
                <p:nvPr/>
              </p:nvGrpSpPr>
              <p:grpSpPr>
                <a:xfrm>
                  <a:off x="1428840" y="1341720"/>
                  <a:ext cx="6509880" cy="4034160"/>
                  <a:chOff x="1428840" y="1341720"/>
                  <a:chExt cx="6509880" cy="4034160"/>
                </a:xfrm>
              </p:grpSpPr>
              <p:sp>
                <p:nvSpPr>
                  <p:cNvPr id="101" name=""/>
                  <p:cNvSpPr/>
                  <p:nvPr/>
                </p:nvSpPr>
                <p:spPr>
                  <a:xfrm>
                    <a:off x="2081880" y="134172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4443120" y="134172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672240" y="1341720"/>
                    <a:ext cx="126648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en-US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-i</a:t>
                    </a:r>
                    <a:r>
                      <a:rPr b="1" lang="en-US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1440720" y="2351880"/>
                    <a:ext cx="237852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3801240" y="2326680"/>
                    <a:ext cx="23544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1428840" y="3884400"/>
                    <a:ext cx="240300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3789720" y="3884400"/>
                    <a:ext cx="2378880" cy="149148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c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2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fr-FR" sz="3600" spc="-1" strike="noStrike">
                        <a:solidFill>
                          <a:srgbClr val="ff0000"/>
                        </a:solidFill>
                        <a:latin typeface="Times New Roman"/>
                      </a:rPr>
                      <a:t>-s</a:t>
                    </a:r>
                    <a:r>
                      <a:rPr b="1" lang="fr-FR" sz="3600" spc="-1" strike="noStrike" baseline="-25000">
                        <a:solidFill>
                          <a:srgbClr val="ff0000"/>
                        </a:solidFill>
                        <a:latin typeface="Times New Roman"/>
                      </a:rPr>
                      <a:t>12</a:t>
                    </a:r>
                    <a:r>
                      <a:rPr b="1" lang="fr-FR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fr-FR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fr-FR" sz="3600" spc="-1" strike="noStrike" baseline="-25000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1" lang="fr-FR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s</a:t>
                    </a:r>
                    <a:r>
                      <a:rPr b="1" lang="fr-FR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 </a:t>
                    </a:r>
                    <a:r>
                      <a:rPr b="1" lang="fr-FR" sz="3600" spc="-1" strike="noStrike">
                        <a:solidFill>
                          <a:srgbClr val="808080"/>
                        </a:solidFill>
                        <a:latin typeface="Times New Roman"/>
                      </a:rPr>
                      <a:t>e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Times New Roman"/>
                      </a:rPr>
                      <a:t>i</a:t>
                    </a:r>
                    <a:r>
                      <a:rPr b="1" lang="fr-FR" sz="3600" spc="-1" strike="noStrike" baseline="30000">
                        <a:solidFill>
                          <a:srgbClr val="808080"/>
                        </a:solidFill>
                        <a:latin typeface="Symbol"/>
                        <a:ea typeface="Symbol"/>
                      </a:rPr>
                      <a:t>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735240" y="2628360"/>
                    <a:ext cx="117216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s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6735240" y="4186440"/>
                    <a:ext cx="1196640" cy="798120"/>
                  </a:xfrm>
                  <a:prstGeom prst="bracketPair">
                    <a:avLst>
                      <a:gd name="adj" fmla="val 17129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6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33cc"/>
                        </a:solidFill>
                        <a:latin typeface="Times New Roman"/>
                      </a:rPr>
                      <a:t>23</a:t>
                    </a:r>
                    <a:r>
                      <a:rPr b="1" lang="en-US" sz="3600" spc="-1" strike="noStrike">
                        <a:solidFill>
                          <a:srgbClr val="339933"/>
                        </a:solidFill>
                        <a:latin typeface="Times New Roman"/>
                      </a:rPr>
                      <a:t>c</a:t>
                    </a:r>
                    <a:r>
                      <a:rPr b="1" lang="en-US" sz="3600" spc="-1" strike="noStrike" baseline="-25000">
                        <a:solidFill>
                          <a:srgbClr val="339933"/>
                        </a:solidFill>
                        <a:latin typeface="Times New Roman"/>
                      </a:rPr>
                      <a:t>13</a:t>
                    </a:r>
                    <a:endParaRPr b="0" lang="en-US" sz="3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"/>
                <p:cNvSpPr/>
                <p:nvPr/>
              </p:nvSpPr>
              <p:spPr>
                <a:xfrm>
                  <a:off x="1348200" y="1066680"/>
                  <a:ext cx="6681960" cy="4267440"/>
                </a:xfrm>
                <a:prstGeom prst="bracketPair">
                  <a:avLst>
                    <a:gd name="adj" fmla="val 7407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"/>
            <p:cNvSpPr/>
            <p:nvPr/>
          </p:nvSpPr>
          <p:spPr>
            <a:xfrm>
              <a:off x="1840680" y="1371600"/>
              <a:ext cx="6048720" cy="8380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5275080" y="2491200"/>
              <a:ext cx="3962520" cy="1265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339933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171280" y="1066680"/>
              <a:ext cx="703080" cy="4267440"/>
              <a:chOff x="8171280" y="1066680"/>
              <a:chExt cx="703080" cy="4267440"/>
            </a:xfrm>
          </p:grpSpPr>
          <p:grpSp>
            <p:nvGrpSpPr>
              <p:cNvPr id="114" name=""/>
              <p:cNvGrpSpPr/>
              <p:nvPr/>
            </p:nvGrpSpPr>
            <p:grpSpPr>
              <a:xfrm>
                <a:off x="8231040" y="1371600"/>
                <a:ext cx="550800" cy="3690000"/>
                <a:chOff x="8231040" y="1371600"/>
                <a:chExt cx="550800" cy="36900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8231040" y="13716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8231040" y="281952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231040" y="4343400"/>
                  <a:ext cx="550800" cy="71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" name=""/>
              <p:cNvSpPr/>
              <p:nvPr/>
            </p:nvSpPr>
            <p:spPr>
              <a:xfrm>
                <a:off x="8171280" y="1066680"/>
                <a:ext cx="703080" cy="4267440"/>
              </a:xfrm>
              <a:prstGeom prst="bracketPair">
                <a:avLst>
                  <a:gd name="adj" fmla="val 17129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22840" y="1066680"/>
              <a:ext cx="703440" cy="4391280"/>
              <a:chOff x="222840" y="1066680"/>
              <a:chExt cx="703440" cy="4391280"/>
            </a:xfrm>
          </p:grpSpPr>
          <p:sp>
            <p:nvSpPr>
              <p:cNvPr id="120" name=""/>
              <p:cNvSpPr/>
              <p:nvPr/>
            </p:nvSpPr>
            <p:spPr>
              <a:xfrm>
                <a:off x="352800" y="1295280"/>
                <a:ext cx="535680" cy="71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US" sz="36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93040" y="4191120"/>
                <a:ext cx="512640" cy="12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3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fr-FR" sz="36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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22840" y="1066680"/>
                <a:ext cx="703440" cy="4267080"/>
                <a:chOff x="222840" y="1066680"/>
                <a:chExt cx="703440" cy="426708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92680" y="2819160"/>
                  <a:ext cx="552600" cy="12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</a:t>
                  </a:r>
                  <a:r>
                    <a:rPr b="0" lang="en-US" sz="3600" spc="-1" strike="noStrike" baseline="-25000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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22840" y="1066680"/>
                  <a:ext cx="703440" cy="4267080"/>
                </a:xfrm>
                <a:prstGeom prst="bracketPair">
                  <a:avLst>
                    <a:gd name="adj" fmla="val 17129"/>
                  </a:avLst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5" name=""/>
          <p:cNvSpPr/>
          <p:nvPr/>
        </p:nvSpPr>
        <p:spPr>
          <a:xfrm>
            <a:off x="831600" y="29973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920" y="6491160"/>
            <a:ext cx="37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+ 2 phases Majorana termes diagon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20179200">
            <a:off x="3203280" y="1215360"/>
            <a:ext cx="123048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ff0000"/>
                </a:solidFill>
                <a:latin typeface="Times New Roman"/>
              </a:rPr>
              <a:t>sola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20095200">
            <a:off x="6277680" y="3501000"/>
            <a:ext cx="2085840" cy="78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0" lang="fr-FR" sz="4000" spc="-1" strike="noStrike" baseline="-25000">
                <a:solidFill>
                  <a:srgbClr val="339933"/>
                </a:solidFill>
                <a:latin typeface="Times New Roman"/>
              </a:rPr>
              <a:t>atm, terres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61960" y="0"/>
            <a:ext cx="446868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sse et Mélang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39760" y="3936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6432480" y="3306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0000" y="882000"/>
            <a:ext cx="37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cteur des Qua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280" y="1523880"/>
            <a:ext cx="4253040" cy="4857840"/>
          </a:xfrm>
          <a:prstGeom prst="rect">
            <a:avLst/>
          </a:prstGeom>
          <a:solidFill>
            <a:srgbClr val="ff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1910880"/>
            <a:ext cx="2112840" cy="1237680"/>
          </a:xfrm>
          <a:prstGeom prst="downArrowCallout">
            <a:avLst>
              <a:gd name="adj1" fmla="val 42681"/>
              <a:gd name="adj2" fmla="val 42677"/>
              <a:gd name="adj3" fmla="val 16667"/>
              <a:gd name="adj4" fmla="val 6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onal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680" y="4199400"/>
            <a:ext cx="425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ants Chargés: matrice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K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79440" y="2924280"/>
            <a:ext cx="3847680" cy="1201320"/>
            <a:chOff x="379440" y="2924280"/>
            <a:chExt cx="3847680" cy="1201320"/>
          </a:xfrm>
        </p:grpSpPr>
        <p:grpSp>
          <p:nvGrpSpPr>
            <p:cNvPr id="138" name=""/>
            <p:cNvGrpSpPr/>
            <p:nvPr/>
          </p:nvGrpSpPr>
          <p:grpSpPr>
            <a:xfrm>
              <a:off x="379440" y="2924280"/>
              <a:ext cx="3847680" cy="479160"/>
              <a:chOff x="379440" y="2924280"/>
              <a:chExt cx="3847680" cy="479160"/>
            </a:xfrm>
          </p:grpSpPr>
          <mc:AlternateContent>
            <mc:Choice xmlns:a14="http://schemas.microsoft.com/office/drawing/2010/main" Requires="a14">
              <p:sp>
                <p:nvSpPr>
                  <p:cNvPr id="139" name=""/>
                  <p:cNvSpPr txBox="1"/>
                  <p:nvPr/>
                </p:nvSpPr>
                <p:spPr>
                  <a:xfrm>
                    <a:off x="379440" y="2924280"/>
                    <a:ext cx="1853280" cy="47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40" name=""/>
                  <p:cNvSpPr txBox="1"/>
                  <p:nvPr/>
                </p:nvSpPr>
                <p:spPr>
                  <a:xfrm>
                    <a:off x="2425680" y="2930760"/>
                    <a:ext cx="1801440" cy="4651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≡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U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d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08000" y="3623040"/>
                  <a:ext cx="2679840" cy="50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u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Sup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+</m:t>
                      </m:r>
                      <m:sSubSup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d</m:t>
                              </m:r>
                            </m:e>
                          </m:acc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sSub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  <m:sSubSup>
                        <m:e>
                          <m:r>
                            <m:t xml:space="preserve">d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62120" y="1676520"/>
                <a:ext cx="3109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547640" y="1600200"/>
            <a:ext cx="67644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009800" y="5637600"/>
            <a:ext cx="2381040" cy="684000"/>
            <a:chOff x="1009800" y="5637600"/>
            <a:chExt cx="2381040" cy="684000"/>
          </a:xfrm>
        </p:grpSpPr>
        <mc:AlternateContent>
          <mc:Choice xmlns:a14="http://schemas.microsoft.com/office/drawing/2010/main" Requires="a14">
            <p:sp>
              <p:nvSpPr>
                <p:cNvPr id="145" name=""/>
                <p:cNvSpPr txBox="1"/>
                <p:nvPr/>
              </p:nvSpPr>
              <p:spPr>
                <a:xfrm>
                  <a:off x="1009800" y="5759280"/>
                  <a:ext cx="2342880" cy="562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/>
                            <m:sub>
                              <m:r>
                                <m:t xml:space="preserve">q</m:t>
                              </m:r>
                            </m:sub>
                          </m:sSub>
                        </m:sub>
                        <m:sup>
                          <m:r>
                            <m:rPr>
                              <m:lit/>
                              <m:nor/>
                            </m:rPr>
                            <m:t xml:space="preserve">CKM</m:t>
                          </m:r>
                        </m:sup>
                      </m:sSubSup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u</m:t>
                          </m:r>
                        </m:sub>
                      </m:sSub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d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46" name=""/>
            <p:cNvSpPr/>
            <p:nvPr/>
          </p:nvSpPr>
          <p:spPr>
            <a:xfrm flipH="1">
              <a:off x="3051000" y="5637600"/>
              <a:ext cx="33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30360" y="4967280"/>
                <a:ext cx="33433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q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KM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2584440" y="4938840"/>
            <a:ext cx="109224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30320" y="882000"/>
            <a:ext cx="419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Times New Roman"/>
              </a:rPr>
              <a:t>Secteur des Neutri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33920" y="1504800"/>
            <a:ext cx="4249800" cy="485784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05080" y="1640520"/>
            <a:ext cx="3645360" cy="1063440"/>
          </a:xfrm>
          <a:prstGeom prst="downArrowCallout">
            <a:avLst>
              <a:gd name="adj1" fmla="val 58978"/>
              <a:gd name="adj2" fmla="val 49149"/>
              <a:gd name="adj3" fmla="val 16630"/>
              <a:gd name="adj4" fmla="val 718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èle 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 de masse ni de 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65760" y="2844360"/>
            <a:ext cx="334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roits:  terme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Dir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gauches de </a:t>
            </a: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Majorana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4843440" y="3938760"/>
            <a:ext cx="3809880" cy="706320"/>
            <a:chOff x="4843440" y="3938760"/>
            <a:chExt cx="3809880" cy="706320"/>
          </a:xfrm>
        </p:grpSpPr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6994440" y="4025520"/>
                  <a:ext cx="1658880" cy="51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≡</m:t>
                      </m:r>
                      <m:sSub>
                        <m:e>
                          <m:r>
                            <m:t xml:space="preserve">U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 ν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grpSp>
          <p:nvGrpSpPr>
            <p:cNvPr id="155" name=""/>
            <p:cNvGrpSpPr/>
            <p:nvPr/>
          </p:nvGrpSpPr>
          <p:grpSpPr>
            <a:xfrm>
              <a:off x="4843440" y="3938760"/>
              <a:ext cx="2009520" cy="706320"/>
              <a:chOff x="4843440" y="3938760"/>
              <a:chExt cx="2009520" cy="706320"/>
            </a:xfrm>
          </p:grpSpPr>
          <mc:AlternateContent>
            <mc:Choice xmlns:a14="http://schemas.microsoft.com/office/drawing/2010/main" Requires="a14">
              <p:sp>
                <p:nvSpPr>
                  <p:cNvPr id="156" name=""/>
                  <p:cNvSpPr txBox="1"/>
                  <p:nvPr/>
                </p:nvSpPr>
                <p:spPr>
                  <a:xfrm>
                    <a:off x="4843440" y="4014720"/>
                    <a:ext cx="2009520" cy="552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ν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 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ν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"/>
              <p:cNvSpPr/>
              <p:nvPr/>
            </p:nvSpPr>
            <p:spPr>
              <a:xfrm>
                <a:off x="5811120" y="3938760"/>
                <a:ext cx="1041480" cy="70632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4853160" y="4952880"/>
                <a:ext cx="382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</m:sSub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ν</m:t>
                            </m:r>
                          </m:e>
                        </m:acc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  <m:sSup>
                      <m:e>
                        <m:r>
                          <m:t xml:space="preserve">γ</m:t>
                        </m:r>
                      </m:e>
                      <m:sup>
                        <m:r>
                          <m:t xml:space="preserve">μ</m:t>
                        </m:r>
                      </m:sup>
                    </m:sSup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S</m:t>
                        </m:r>
                      </m:sup>
                    </m:sSubSup>
                    <m:sSubSup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L</m:t>
                        </m:r>
                      </m:sub>
                      <m:sup>
                        <m:r>
                          <m:t xml:space="preserve">m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713120" y="5727600"/>
                <a:ext cx="196884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sSub>
                          <m:e/>
                          <m:sub>
                            <m:r>
                              <m:t xml:space="preserve">ν</m:t>
                            </m:r>
                          </m:sub>
                        </m:sSub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  <m:r>
                          <m:rPr>
                            <m:lit/>
                            <m:nor/>
                          </m:rPr>
                          <m:t xml:space="preserve">SP</m:t>
                        </m:r>
                      </m:sup>
                    </m:sSubSup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ν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 flipH="1">
            <a:off x="6477840" y="5561640"/>
            <a:ext cx="29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6781680" y="5559480"/>
            <a:ext cx="2058840" cy="690120"/>
            <a:chOff x="6781680" y="5559480"/>
            <a:chExt cx="2058840" cy="690120"/>
          </a:xfrm>
        </p:grpSpPr>
        <mc:AlternateContent>
          <mc:Choice xmlns:a14="http://schemas.microsoft.com/office/drawing/2010/main" Requires="a14">
            <p:sp>
              <p:nvSpPr>
                <p:cNvPr id="162" name=""/>
                <p:cNvSpPr txBox="1"/>
                <p:nvPr/>
              </p:nvSpPr>
              <p:spPr>
                <a:xfrm>
                  <a:off x="6781680" y="5695560"/>
                  <a:ext cx="1978920" cy="55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M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ΦV</m:t>
                          </m:r>
                        </m:e>
                        <m:sub>
                          <m:r>
                            <m:t xml:space="preserve">ν</m:t>
                          </m:r>
                        </m:sub>
                        <m:sup>
                          <m:r>
                            <m:t xml:space="preserve">D</m:t>
                          </m:r>
                        </m:sup>
                      </m:sSubSup>
                      <m:r>
                        <m:t xml:space="preserve">Φ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63" name=""/>
            <p:cNvSpPr/>
            <p:nvPr/>
          </p:nvSpPr>
          <p:spPr>
            <a:xfrm flipH="1">
              <a:off x="8556840" y="5559480"/>
              <a:ext cx="2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986440" y="6362640"/>
                <a:ext cx="28209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diag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iα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p>
                    </m:sSup>
                    <m:r>
                      <m:t xml:space="preserve">,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3235320" y="1600200"/>
            <a:ext cx="67788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74080" y="4876920"/>
            <a:ext cx="1091880" cy="620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11:32:35Z</dcterms:created>
  <dc:creator>Campagne</dc:creator>
  <dc:description/>
  <dc:language>en-US</dc:language>
  <cp:lastModifiedBy>J.E Campagne</cp:lastModifiedBy>
  <dcterms:modified xsi:type="dcterms:W3CDTF">2008-09-18T14:35:01Z</dcterms:modified>
  <cp:revision>1</cp:revision>
  <dc:subject/>
  <dc:title>Présentation PowerPoint</dc:title>
</cp:coreProperties>
</file>